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c08d"/>
                </a:solidFill>
                <a:latin typeface="Engravers MT"/>
              </a:rPr>
              <a:t>Click to move the slide</a:t>
            </a:r>
            <a:endParaRPr b="0" lang="en-US" sz="36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6A1D-6E16-4C92-8445-25E540FAD201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uhaus 93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4B1B-CEC2-402E-A260-1D1BD74ADB22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E434-A7AF-48C5-8EBC-73FA56E36B96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A7CB-632B-4205-9D59-D7B0B20CE8A3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25DB-0ECD-4EF8-BCAD-72ED2B6954FF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18B5-1103-4FED-B1FF-573A2F03E2ED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3D61-4002-4C40-B705-DB7B8326381F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EC44-E6B3-470D-B1B1-F33184868ABC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FD55-6B75-40B3-A1C3-8D70DE13254A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0F9F-8650-4520-BAA0-4858637ADE1E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D9F2-EC1A-4A77-B8F4-048FB75363CD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FD45-FD50-46C6-8755-243116669AAB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B17A-5446-47D4-B5C4-2E9BE9F25D49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28AD-72F0-4A0E-BD6A-1CFD509A6A16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D0EA-A1FF-426A-83FD-C07C58F8D887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5CEE-D656-4EF3-8401-C7DE343C6E7C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041E-7889-47FD-A610-42CBAD21BD0B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584B-745B-42CB-ACCF-85E602D8D6C9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E9B0-5DA0-48F5-8ADA-C5964D0ADFDD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1806-1701-472B-B3F2-EFE2914CCA8D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CC99-22ED-4893-A26D-6E3A4671659A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DB97-92C9-4498-BB82-2FC1689D7370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1CC0-0161-4562-9C8E-741AB771353B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BFA4-5CBF-476D-BC2A-350CE3AE981B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7892-5C10-4ED1-B67E-E36420DE28E9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42DC-222B-48DF-A534-58E59C6401A4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4391-1581-4FB9-8200-0D88EF203D06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5B9A-ADCA-437D-A4D9-B87985D468FE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9C8E-1194-4F91-900D-30B7869E1520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6983-89D8-4D4F-BC0F-724829D79EDA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32C7-F95D-48F1-9BB2-B05F7859BE48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633A-E9DF-4BA8-BED2-AD196A24BA82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197B-3794-4882-90BB-F6333A0813E2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D69F-D1E6-487E-97DF-7590FEC77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CE8C-0434-4652-8021-8D41FC31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E702-65C3-48B5-A656-AC4155A8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2683-9BA6-40AA-A9FE-5A1D2ADA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027C-E647-4666-AAA0-6A284C66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81C9-595A-4993-A15E-48A2D1C0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6A61-3BA6-442D-B4AA-9CAEB824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FCC7-521D-4DF0-997C-3834147C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610C-2049-4AEE-821C-7C9FE3FA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9F6A-AF79-444B-857F-4EE4E9B4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56B9-6D75-4565-8987-9F483E13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F9D7-DB83-4A8D-A773-B524EFE4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c08d"/>
                </a:solidFill>
                <a:latin typeface="Engravers MT"/>
              </a:rPr>
              <a:t>Click to edit the title text format</a:t>
            </a:r>
            <a:endParaRPr b="0" lang="en-US" sz="36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2d2015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1FFD-D111-4F5E-B4C5-2627CC146F3B}" type="slidenum">
              <a:rPr b="0" lang="en-US" sz="14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uhaus 93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2743200"/>
          </a:xfrm>
          <a:prstGeom prst="rect">
            <a:avLst/>
          </a:prstGeom>
          <a:solidFill>
            <a:srgbClr val="ccb400"/>
          </a:solidFill>
          <a:ln w="57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51b0b"/>
                </a:solidFill>
                <a:latin typeface="Engravers MT"/>
              </a:rPr>
              <a:t>Management of Organizational Behavior:  </a:t>
            </a:r>
            <a:br>
              <a:rPr sz="3600"/>
            </a:br>
            <a:r>
              <a:rPr b="0" lang="en-US" sz="2400" spc="-1" strike="noStrike">
                <a:solidFill>
                  <a:srgbClr val="251b0b"/>
                </a:solidFill>
                <a:latin typeface="Engravers MT"/>
              </a:rPr>
              <a:t>Leading Human Resources</a:t>
            </a:r>
            <a:endParaRPr b="0" lang="en-US" sz="24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4419360"/>
            <a:ext cx="71625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2015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Engravers MT"/>
              </a:rPr>
              <a:t>Concerns and examples </a:t>
            </a:r>
            <a:br>
              <a:rPr sz="3200"/>
            </a:br>
            <a:r>
              <a:rPr b="0" lang="en-US" sz="3200" spc="-1" strike="noStrike">
                <a:solidFill>
                  <a:srgbClr val="dfc08d"/>
                </a:solidFill>
                <a:latin typeface="Engravers MT"/>
              </a:rPr>
              <a:t>Linear Model</a:t>
            </a:r>
            <a:endParaRPr b="0" lang="en-US" sz="32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Follower is not involved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No face-to-face communication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Based on hope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Does follower understand the communication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No opportunity for response from follower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Represents one-way communication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Billboards, television, flyers, signs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2"/>
          <p:cNvSpPr/>
          <p:nvPr/>
        </p:nvSpPr>
        <p:spPr>
          <a:xfrm rot="896400">
            <a:off x="609120" y="1261800"/>
            <a:ext cx="3057480" cy="1557360"/>
          </a:xfrm>
          <a:custGeom>
            <a:avLst/>
            <a:gdLst>
              <a:gd name="textAreaLeft" fmla="*/ 409320 w 3057480"/>
              <a:gd name="textAreaRight" fmla="*/ 2648160 w 3057480"/>
              <a:gd name="textAreaTop" fmla="*/ 277560 h 1557360"/>
              <a:gd name="textAreaBottom" fmla="*/ 1160280 h 15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04" stAng="-5400000" swAng="-5400000"/>
                <a:lnTo>
                  <a:pt x="0" y="12238"/>
                </a:lnTo>
                <a:arcTo wR="21600" hR="7704" stAng="10800000" swAng="-2617195"/>
                <a:lnTo>
                  <a:pt x="14029" y="21111"/>
                </a:lnTo>
                <a:lnTo>
                  <a:pt x="21600" y="17674"/>
                </a:lnTo>
                <a:lnTo>
                  <a:pt x="14029" y="13259"/>
                </a:lnTo>
                <a:lnTo>
                  <a:pt x="14029" y="14918"/>
                </a:lnTo>
                <a:arcTo wR="21600" hR="7704" stAng="8182805" swAng="2241180"/>
                <a:lnTo>
                  <a:pt x="956" y="9971"/>
                </a:lnTo>
                <a:arcTo wR="21600" hR="7704" stAng="-10423985" swAng="5023985"/>
                <a:close/>
              </a:path>
              <a:path fill="darkenLess" w="21600" h="21600">
                <a:moveTo>
                  <a:pt x="21600" y="0"/>
                </a:moveTo>
                <a:arcTo wR="21600" hR="7704" stAng="-5400000" swAng="-5400000"/>
                <a:lnTo>
                  <a:pt x="0" y="7704"/>
                </a:lnTo>
                <a:arcTo wR="21600" hR="7704" stAng="10800000" swAng="-376015"/>
                <a:lnTo>
                  <a:pt x="956" y="9971"/>
                </a:lnTo>
                <a:arcTo wR="21600" hR="7704" stAng="-10423985" swAng="5023985"/>
                <a:close/>
              </a:path>
            </a:pathLst>
          </a:cu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79" name="AutoShape 3"/>
          <p:cNvSpPr/>
          <p:nvPr/>
        </p:nvSpPr>
        <p:spPr>
          <a:xfrm flipH="1" rot="20703600">
            <a:off x="5551920" y="2437920"/>
            <a:ext cx="3057480" cy="1557000"/>
          </a:xfrm>
          <a:custGeom>
            <a:avLst/>
            <a:gdLst>
              <a:gd name="textAreaLeft" fmla="*/ 409320 w 3057480"/>
              <a:gd name="textAreaRight" fmla="*/ 2648160 w 3057480"/>
              <a:gd name="textAreaTop" fmla="*/ 277560 h 1557000"/>
              <a:gd name="textAreaBottom" fmla="*/ 1159920 h 155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04" stAng="-5400000" swAng="-5400000"/>
                <a:lnTo>
                  <a:pt x="0" y="12238"/>
                </a:lnTo>
                <a:arcTo wR="21600" hR="7704" stAng="10800000" swAng="-2617195"/>
                <a:lnTo>
                  <a:pt x="14029" y="21111"/>
                </a:lnTo>
                <a:lnTo>
                  <a:pt x="21600" y="17674"/>
                </a:lnTo>
                <a:lnTo>
                  <a:pt x="14029" y="13259"/>
                </a:lnTo>
                <a:lnTo>
                  <a:pt x="14029" y="14918"/>
                </a:lnTo>
                <a:arcTo wR="21600" hR="7704" stAng="8182805" swAng="2241180"/>
                <a:lnTo>
                  <a:pt x="956" y="9971"/>
                </a:lnTo>
                <a:arcTo wR="21600" hR="7704" stAng="-10423985" swAng="5023985"/>
                <a:close/>
              </a:path>
              <a:path fill="darkenLess" w="21600" h="21600">
                <a:moveTo>
                  <a:pt x="21600" y="0"/>
                </a:moveTo>
                <a:arcTo wR="21600" hR="7704" stAng="-5400000" swAng="-5400000"/>
                <a:lnTo>
                  <a:pt x="0" y="7704"/>
                </a:lnTo>
                <a:arcTo wR="21600" hR="7704" stAng="10800000" swAng="-376015"/>
                <a:lnTo>
                  <a:pt x="956" y="9971"/>
                </a:lnTo>
                <a:arcTo wR="21600" hR="7704" stAng="-10423985" swAng="5023985"/>
                <a:close/>
              </a:path>
            </a:pathLst>
          </a:cu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c08d"/>
                </a:solidFill>
                <a:latin typeface="Engravers MT"/>
              </a:rPr>
              <a:t>The Linear Model</a:t>
            </a:r>
            <a:endParaRPr b="0" lang="en-US" sz="36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685800" y="5410080"/>
            <a:ext cx="1828800" cy="990720"/>
          </a:xfrm>
          <a:prstGeom prst="octagon">
            <a:avLst>
              <a:gd name="adj" fmla="val 29287"/>
            </a:avLst>
          </a:prstGeom>
          <a:solidFill>
            <a:srgbClr val="ccb4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Book Antiqua"/>
              </a:rPr>
              <a:t>Leader</a:t>
            </a:r>
            <a:endParaRPr b="0" lang="en-US" sz="28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6477120" y="5410080"/>
            <a:ext cx="1828800" cy="990720"/>
          </a:xfrm>
          <a:prstGeom prst="octagon">
            <a:avLst>
              <a:gd name="adj" fmla="val 29287"/>
            </a:avLst>
          </a:prstGeom>
          <a:solidFill>
            <a:srgbClr val="ccb4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Book Antiqua"/>
              </a:rPr>
              <a:t>Follower</a:t>
            </a:r>
            <a:endParaRPr b="0" lang="en-US" sz="28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83" name="AutoShape 7"/>
          <p:cNvSpPr/>
          <p:nvPr/>
        </p:nvSpPr>
        <p:spPr>
          <a:xfrm>
            <a:off x="3086280" y="5410080"/>
            <a:ext cx="2971800" cy="990720"/>
          </a:xfrm>
          <a:custGeom>
            <a:avLst/>
            <a:gdLst>
              <a:gd name="textAreaLeft" fmla="*/ 371520 w 2971800"/>
              <a:gd name="textAreaRight" fmla="*/ 2600640 w 29718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f5f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b400"/>
                </a:solidFill>
                <a:latin typeface="Book Antiqua"/>
              </a:rPr>
              <a:t>Channel</a:t>
            </a:r>
            <a:endParaRPr b="0" lang="en-US" sz="24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1371600" y="1295280"/>
            <a:ext cx="670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898560" y="1333440"/>
            <a:ext cx="6645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86" name="AutoShape 10"/>
          <p:cNvSpPr/>
          <p:nvPr/>
        </p:nvSpPr>
        <p:spPr>
          <a:xfrm rot="896400">
            <a:off x="636120" y="3741480"/>
            <a:ext cx="3057480" cy="1557360"/>
          </a:xfrm>
          <a:custGeom>
            <a:avLst/>
            <a:gdLst>
              <a:gd name="textAreaLeft" fmla="*/ 409320 w 3057480"/>
              <a:gd name="textAreaRight" fmla="*/ 2648160 w 3057480"/>
              <a:gd name="textAreaTop" fmla="*/ 277560 h 1557360"/>
              <a:gd name="textAreaBottom" fmla="*/ 1160280 h 15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04" stAng="-5400000" swAng="-5400000"/>
                <a:lnTo>
                  <a:pt x="0" y="12238"/>
                </a:lnTo>
                <a:arcTo wR="21600" hR="7704" stAng="10800000" swAng="-2617195"/>
                <a:lnTo>
                  <a:pt x="14029" y="21111"/>
                </a:lnTo>
                <a:lnTo>
                  <a:pt x="21600" y="17674"/>
                </a:lnTo>
                <a:lnTo>
                  <a:pt x="14029" y="13259"/>
                </a:lnTo>
                <a:lnTo>
                  <a:pt x="14029" y="14918"/>
                </a:lnTo>
                <a:arcTo wR="21600" hR="7704" stAng="8182805" swAng="2241180"/>
                <a:lnTo>
                  <a:pt x="956" y="9971"/>
                </a:lnTo>
                <a:arcTo wR="21600" hR="7704" stAng="-10423985" swAng="5023985"/>
                <a:close/>
              </a:path>
              <a:path fill="darkenLess" w="21600" h="21600">
                <a:moveTo>
                  <a:pt x="21600" y="0"/>
                </a:moveTo>
                <a:arcTo wR="21600" hR="7704" stAng="-5400000" swAng="-5400000"/>
                <a:lnTo>
                  <a:pt x="0" y="7704"/>
                </a:lnTo>
                <a:arcTo wR="21600" hR="7704" stAng="10800000" swAng="-376015"/>
                <a:lnTo>
                  <a:pt x="956" y="9971"/>
                </a:lnTo>
                <a:arcTo wR="21600" hR="7704" stAng="-10423985" swAng="5023985"/>
                <a:close/>
              </a:path>
            </a:pathLst>
          </a:cu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87" name="AutoShape 11"/>
          <p:cNvSpPr/>
          <p:nvPr/>
        </p:nvSpPr>
        <p:spPr>
          <a:xfrm>
            <a:off x="3657600" y="3844800"/>
            <a:ext cx="1828800" cy="920880"/>
          </a:xfrm>
          <a:prstGeom prst="octagon">
            <a:avLst>
              <a:gd name="adj" fmla="val 29287"/>
            </a:avLst>
          </a:pr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3e26"/>
                </a:solidFill>
                <a:latin typeface="Book Antiqua"/>
              </a:rPr>
              <a:t>Message</a:t>
            </a:r>
            <a:endParaRPr b="0" lang="en-US" sz="24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88" name="AutoShape 12"/>
          <p:cNvSpPr/>
          <p:nvPr/>
        </p:nvSpPr>
        <p:spPr>
          <a:xfrm>
            <a:off x="3657600" y="2570040"/>
            <a:ext cx="1828800" cy="920880"/>
          </a:xfrm>
          <a:prstGeom prst="octagon">
            <a:avLst>
              <a:gd name="adj" fmla="val 29287"/>
            </a:avLst>
          </a:pr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3e26"/>
                </a:solidFill>
                <a:latin typeface="Book Antiqua"/>
              </a:rPr>
              <a:t>Symbols</a:t>
            </a:r>
            <a:endParaRPr b="0" lang="en-US" sz="24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89" name="AutoShape 13"/>
          <p:cNvSpPr/>
          <p:nvPr/>
        </p:nvSpPr>
        <p:spPr>
          <a:xfrm>
            <a:off x="3657600" y="1366920"/>
            <a:ext cx="1828800" cy="919080"/>
          </a:xfrm>
          <a:prstGeom prst="octagon">
            <a:avLst>
              <a:gd name="adj" fmla="val 29287"/>
            </a:avLst>
          </a:pr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3e26"/>
                </a:solidFill>
                <a:latin typeface="Book Antiqua"/>
              </a:rPr>
              <a:t>Encode</a:t>
            </a:r>
            <a:endParaRPr b="0" lang="en-US" sz="2400" spc="-1" strike="noStrike">
              <a:solidFill>
                <a:srgbClr val="ffffff"/>
              </a:solidFill>
              <a:latin typeface="Bauhaus 9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Engravers MT"/>
              </a:rPr>
              <a:t>The Interactional communication Model</a:t>
            </a:r>
            <a:endParaRPr b="0" lang="en-US" sz="32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27432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This model allows the follower to have face-to-face communication with the leader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Engravers MT"/>
              </a:rPr>
              <a:t>The Interactional communication Model</a:t>
            </a:r>
            <a:endParaRPr b="0" lang="en-US" sz="32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1371600" y="3200400"/>
            <a:ext cx="1828800" cy="990720"/>
          </a:xfrm>
          <a:prstGeom prst="octagon">
            <a:avLst>
              <a:gd name="adj" fmla="val 29287"/>
            </a:avLst>
          </a:prstGeom>
          <a:solidFill>
            <a:srgbClr val="ccb4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Book Antiqua"/>
              </a:rPr>
              <a:t>Leader</a:t>
            </a:r>
            <a:endParaRPr b="0" lang="en-US" sz="28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5791320" y="3200400"/>
            <a:ext cx="1828800" cy="990720"/>
          </a:xfrm>
          <a:prstGeom prst="octagon">
            <a:avLst>
              <a:gd name="adj" fmla="val 29287"/>
            </a:avLst>
          </a:prstGeom>
          <a:solidFill>
            <a:srgbClr val="ccb4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Book Antiqua"/>
              </a:rPr>
              <a:t>Follower</a:t>
            </a:r>
            <a:endParaRPr b="0" lang="en-US" sz="28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3352680" y="3200400"/>
            <a:ext cx="2210040" cy="990720"/>
          </a:xfrm>
          <a:custGeom>
            <a:avLst/>
            <a:gdLst>
              <a:gd name="textAreaLeft" fmla="*/ 276120 w 2210040"/>
              <a:gd name="textAreaRight" fmla="*/ 1933920 w 221004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f5f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b400"/>
                </a:solidFill>
                <a:latin typeface="Book Antiqua"/>
              </a:rPr>
              <a:t>Channel</a:t>
            </a:r>
            <a:endParaRPr b="0" lang="en-US" sz="24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4267080" y="2514600"/>
            <a:ext cx="609840" cy="762120"/>
          </a:xfrm>
          <a:prstGeom prst="downArrow">
            <a:avLst>
              <a:gd name="adj1" fmla="val 50000"/>
              <a:gd name="adj2" fmla="val 31243"/>
            </a:avLst>
          </a:pr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97" name="AutoShape 11"/>
          <p:cNvSpPr/>
          <p:nvPr/>
        </p:nvSpPr>
        <p:spPr>
          <a:xfrm>
            <a:off x="8153280" y="3581280"/>
            <a:ext cx="609840" cy="762120"/>
          </a:xfrm>
          <a:prstGeom prst="downArrow">
            <a:avLst>
              <a:gd name="adj1" fmla="val 50000"/>
              <a:gd name="adj2" fmla="val 31243"/>
            </a:avLst>
          </a:pr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98" name="AutoShape 13"/>
          <p:cNvSpPr/>
          <p:nvPr/>
        </p:nvSpPr>
        <p:spPr>
          <a:xfrm rot="5400000">
            <a:off x="4571640" y="5715000"/>
            <a:ext cx="609480" cy="762120"/>
          </a:xfrm>
          <a:prstGeom prst="downArrow">
            <a:avLst>
              <a:gd name="adj1" fmla="val 50000"/>
              <a:gd name="adj2" fmla="val 31261"/>
            </a:avLst>
          </a:pr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99" name="AutoShape 15"/>
          <p:cNvSpPr/>
          <p:nvPr/>
        </p:nvSpPr>
        <p:spPr>
          <a:xfrm rot="10800000">
            <a:off x="228240" y="3885840"/>
            <a:ext cx="609480" cy="762120"/>
          </a:xfrm>
          <a:prstGeom prst="downArrow">
            <a:avLst>
              <a:gd name="adj1" fmla="val 50000"/>
              <a:gd name="adj2" fmla="val 31261"/>
            </a:avLst>
          </a:pr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00" name="AutoShape 17"/>
          <p:cNvSpPr/>
          <p:nvPr/>
        </p:nvSpPr>
        <p:spPr>
          <a:xfrm rot="16200000">
            <a:off x="3048120" y="1599840"/>
            <a:ext cx="609480" cy="762120"/>
          </a:xfrm>
          <a:prstGeom prst="downArrow">
            <a:avLst>
              <a:gd name="adj1" fmla="val 50000"/>
              <a:gd name="adj2" fmla="val 31261"/>
            </a:avLst>
          </a:pr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01" name="AutoShape 18"/>
          <p:cNvSpPr/>
          <p:nvPr/>
        </p:nvSpPr>
        <p:spPr>
          <a:xfrm rot="13151400">
            <a:off x="6095880" y="2208960"/>
            <a:ext cx="609840" cy="762120"/>
          </a:xfrm>
          <a:prstGeom prst="downArrow">
            <a:avLst>
              <a:gd name="adj1" fmla="val 50000"/>
              <a:gd name="adj2" fmla="val 31243"/>
            </a:avLst>
          </a:pr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02" name="Text Box 24"/>
          <p:cNvSpPr/>
          <p:nvPr/>
        </p:nvSpPr>
        <p:spPr>
          <a:xfrm>
            <a:off x="3924360" y="1981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Message</a:t>
            </a: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03" name="Text Box 25"/>
          <p:cNvSpPr/>
          <p:nvPr/>
        </p:nvSpPr>
        <p:spPr>
          <a:xfrm>
            <a:off x="1600200" y="1752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Symbols</a:t>
            </a: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04" name="Text Box 26"/>
          <p:cNvSpPr/>
          <p:nvPr/>
        </p:nvSpPr>
        <p:spPr>
          <a:xfrm>
            <a:off x="0" y="30621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ncode</a:t>
            </a: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05" name="Text Box 27"/>
          <p:cNvSpPr/>
          <p:nvPr/>
        </p:nvSpPr>
        <p:spPr>
          <a:xfrm>
            <a:off x="304920" y="5181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Decode</a:t>
            </a: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06" name="Text Box 28"/>
          <p:cNvSpPr/>
          <p:nvPr/>
        </p:nvSpPr>
        <p:spPr>
          <a:xfrm>
            <a:off x="2819520" y="5881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Feedback</a:t>
            </a: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5867280" y="5943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Message</a:t>
            </a: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08" name="Text Box 30"/>
          <p:cNvSpPr/>
          <p:nvPr/>
        </p:nvSpPr>
        <p:spPr>
          <a:xfrm>
            <a:off x="7772400" y="4662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Symbol</a:t>
            </a: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09" name="Text Box 31"/>
          <p:cNvSpPr/>
          <p:nvPr/>
        </p:nvSpPr>
        <p:spPr>
          <a:xfrm>
            <a:off x="7772400" y="2909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ncode</a:t>
            </a: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10" name="Text Box 32"/>
          <p:cNvSpPr/>
          <p:nvPr/>
        </p:nvSpPr>
        <p:spPr>
          <a:xfrm>
            <a:off x="6477120" y="1766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Decode</a:t>
            </a: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11" name="AutoShape 33"/>
          <p:cNvSpPr/>
          <p:nvPr/>
        </p:nvSpPr>
        <p:spPr>
          <a:xfrm rot="10800000">
            <a:off x="456840" y="2133720"/>
            <a:ext cx="1731960" cy="976320"/>
          </a:xfrm>
          <a:prstGeom prst="pie">
            <a:avLst/>
          </a:pr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12" name="AutoShape 34"/>
          <p:cNvSpPr/>
          <p:nvPr/>
        </p:nvSpPr>
        <p:spPr>
          <a:xfrm rot="16477800">
            <a:off x="7089480" y="2226600"/>
            <a:ext cx="1731960" cy="976320"/>
          </a:xfrm>
          <a:prstGeom prst="pie">
            <a:avLst/>
          </a:pr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13" name="AutoShape 35"/>
          <p:cNvSpPr/>
          <p:nvPr/>
        </p:nvSpPr>
        <p:spPr>
          <a:xfrm>
            <a:off x="6858000" y="5105520"/>
            <a:ext cx="1731960" cy="976320"/>
          </a:xfrm>
          <a:prstGeom prst="pie">
            <a:avLst/>
          </a:pr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14" name="AutoShape 36"/>
          <p:cNvSpPr/>
          <p:nvPr/>
        </p:nvSpPr>
        <p:spPr>
          <a:xfrm rot="2918400">
            <a:off x="765360" y="5101920"/>
            <a:ext cx="1731960" cy="976320"/>
          </a:xfrm>
          <a:prstGeom prst="pie">
            <a:avLst/>
          </a:pr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Engravers MT"/>
              </a:rPr>
              <a:t>The Interactional communication Model</a:t>
            </a:r>
            <a:endParaRPr b="0" lang="en-US" sz="32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After receiving the message, follower decodes it for meaning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Follower translates the symbols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Follower may create a message to return to the leader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Through decoding messages and encoding symbols, follower may give </a:t>
            </a:r>
            <a:r>
              <a:rPr b="1" lang="en-US" sz="3200" spc="-1" strike="noStrike" u="sng">
                <a:solidFill>
                  <a:srgbClr val="2d2015"/>
                </a:solidFill>
                <a:uFillTx/>
                <a:latin typeface="Book Antiqua"/>
              </a:rPr>
              <a:t>feedback</a:t>
            </a: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 to leader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Engravers MT"/>
              </a:rPr>
              <a:t>The Interactional communication Model</a:t>
            </a:r>
            <a:endParaRPr b="0" lang="en-US" sz="32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015"/>
                </a:solidFill>
                <a:latin typeface="Book Antiqua"/>
              </a:rPr>
              <a:t>Feedback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After receiving feedback from a follower, the leader may reshape through feedback then send message to new follower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Even if there is no feedback, the lack of a response is feedback to the leader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Engravers MT"/>
              </a:rPr>
              <a:t>The Interactional communication Model</a:t>
            </a:r>
            <a:endParaRPr b="0" lang="en-US" sz="32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00996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This model best explains face-to-face human communication and demonstrates that the responses of the other person involved are continual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Engravers MT"/>
              </a:rPr>
              <a:t>The transactional communication model</a:t>
            </a:r>
            <a:endParaRPr b="0" lang="en-US" sz="32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Provides best face-to-face communication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Constantly encoding and decoding messages when talking face-to-face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Channel has two-headed arrow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Contains three new elements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lvl="1" marL="713160" indent="-27432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External Noise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13160" indent="-27432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Internal Noise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13160" indent="-27432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Semantic Noise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Engravers MT"/>
              </a:rPr>
              <a:t>Transactional communication model</a:t>
            </a:r>
            <a:endParaRPr b="0" lang="en-US" sz="32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371600" y="1295280"/>
            <a:ext cx="670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898560" y="1333440"/>
            <a:ext cx="6645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</p:txBody>
      </p:sp>
      <p:grpSp>
        <p:nvGrpSpPr>
          <p:cNvPr id="126" name="Group 17"/>
          <p:cNvGrpSpPr/>
          <p:nvPr/>
        </p:nvGrpSpPr>
        <p:grpSpPr>
          <a:xfrm>
            <a:off x="1897560" y="3191400"/>
            <a:ext cx="5346720" cy="2324520"/>
            <a:chOff x="1897560" y="3191400"/>
            <a:chExt cx="5346720" cy="2324520"/>
          </a:xfrm>
        </p:grpSpPr>
        <p:sp>
          <p:nvSpPr>
            <p:cNvPr id="127" name="AutoShape 5"/>
            <p:cNvSpPr/>
            <p:nvPr/>
          </p:nvSpPr>
          <p:spPr>
            <a:xfrm flipH="1" rot="20703600">
              <a:off x="5171040" y="3429000"/>
              <a:ext cx="1976400" cy="1006560"/>
            </a:xfrm>
            <a:custGeom>
              <a:avLst/>
              <a:gdLst>
                <a:gd name="textAreaLeft" fmla="*/ 264600 w 1976400"/>
                <a:gd name="textAreaRight" fmla="*/ 1711800 w 1976400"/>
                <a:gd name="textAreaTop" fmla="*/ 179280 h 1006560"/>
                <a:gd name="textAreaBottom" fmla="*/ 749880 h 100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704" stAng="-5400000" swAng="-5400000"/>
                  <a:lnTo>
                    <a:pt x="0" y="12238"/>
                  </a:lnTo>
                  <a:arcTo wR="21600" hR="7704" stAng="10800000" swAng="-2617195"/>
                  <a:lnTo>
                    <a:pt x="14029" y="21111"/>
                  </a:lnTo>
                  <a:lnTo>
                    <a:pt x="21600" y="17674"/>
                  </a:lnTo>
                  <a:lnTo>
                    <a:pt x="14029" y="13259"/>
                  </a:lnTo>
                  <a:lnTo>
                    <a:pt x="14029" y="14918"/>
                  </a:lnTo>
                  <a:arcTo wR="21600" hR="7704" stAng="8182805" swAng="2241180"/>
                  <a:lnTo>
                    <a:pt x="956" y="9971"/>
                  </a:lnTo>
                  <a:arcTo wR="21600" hR="7704" stAng="-10423985" swAng="5023985"/>
                  <a:close/>
                </a:path>
                <a:path fill="darkenLess" w="21600" h="21600">
                  <a:moveTo>
                    <a:pt x="21600" y="0"/>
                  </a:moveTo>
                  <a:arcTo wR="21600" hR="7704" stAng="-5400000" swAng="-5400000"/>
                  <a:lnTo>
                    <a:pt x="0" y="7704"/>
                  </a:lnTo>
                  <a:arcTo wR="21600" hR="7704" stAng="10800000" swAng="-376015"/>
                  <a:lnTo>
                    <a:pt x="956" y="9971"/>
                  </a:lnTo>
                  <a:arcTo wR="21600" hR="7704" stAng="-10423985" swAng="5023985"/>
                  <a:close/>
                </a:path>
              </a:pathLst>
            </a:custGeom>
            <a:solidFill>
              <a:srgbClr val="8c9ea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Bauhaus 93"/>
              </a:endParaRPr>
            </a:p>
          </p:txBody>
        </p:sp>
        <p:sp>
          <p:nvSpPr>
            <p:cNvPr id="128" name="AutoShape 11"/>
            <p:cNvSpPr/>
            <p:nvPr/>
          </p:nvSpPr>
          <p:spPr>
            <a:xfrm rot="896400">
              <a:off x="1993680" y="4271400"/>
              <a:ext cx="1976400" cy="1006560"/>
            </a:xfrm>
            <a:custGeom>
              <a:avLst/>
              <a:gdLst>
                <a:gd name="textAreaLeft" fmla="*/ 264600 w 1976400"/>
                <a:gd name="textAreaRight" fmla="*/ 1711800 w 1976400"/>
                <a:gd name="textAreaTop" fmla="*/ 179280 h 1006560"/>
                <a:gd name="textAreaBottom" fmla="*/ 749880 h 100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704" stAng="-5400000" swAng="-5400000"/>
                  <a:lnTo>
                    <a:pt x="0" y="12238"/>
                  </a:lnTo>
                  <a:arcTo wR="21600" hR="7704" stAng="10800000" swAng="-2617195"/>
                  <a:lnTo>
                    <a:pt x="14029" y="21111"/>
                  </a:lnTo>
                  <a:lnTo>
                    <a:pt x="21600" y="17674"/>
                  </a:lnTo>
                  <a:lnTo>
                    <a:pt x="14029" y="13259"/>
                  </a:lnTo>
                  <a:lnTo>
                    <a:pt x="14029" y="14918"/>
                  </a:lnTo>
                  <a:arcTo wR="21600" hR="7704" stAng="8182805" swAng="2241180"/>
                  <a:lnTo>
                    <a:pt x="956" y="9971"/>
                  </a:lnTo>
                  <a:arcTo wR="21600" hR="7704" stAng="-10423985" swAng="5023985"/>
                  <a:close/>
                </a:path>
                <a:path fill="darkenLess" w="21600" h="21600">
                  <a:moveTo>
                    <a:pt x="21600" y="0"/>
                  </a:moveTo>
                  <a:arcTo wR="21600" hR="7704" stAng="-5400000" swAng="-5400000"/>
                  <a:lnTo>
                    <a:pt x="0" y="7704"/>
                  </a:lnTo>
                  <a:arcTo wR="21600" hR="7704" stAng="10800000" swAng="-376015"/>
                  <a:lnTo>
                    <a:pt x="956" y="9971"/>
                  </a:lnTo>
                  <a:arcTo wR="21600" hR="7704" stAng="-10423985" swAng="5023985"/>
                  <a:close/>
                </a:path>
              </a:pathLst>
            </a:custGeom>
            <a:solidFill>
              <a:srgbClr val="8c9ea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Bauhaus 93"/>
              </a:endParaRPr>
            </a:p>
          </p:txBody>
        </p:sp>
        <p:sp>
          <p:nvSpPr>
            <p:cNvPr id="129" name="AutoShape 12"/>
            <p:cNvSpPr/>
            <p:nvPr/>
          </p:nvSpPr>
          <p:spPr>
            <a:xfrm>
              <a:off x="3946680" y="4338000"/>
              <a:ext cx="1181880" cy="595080"/>
            </a:xfrm>
            <a:prstGeom prst="octagon">
              <a:avLst>
                <a:gd name="adj" fmla="val 29287"/>
              </a:avLst>
            </a:prstGeom>
            <a:solidFill>
              <a:srgbClr val="8c9ea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23e26"/>
                  </a:solidFill>
                  <a:latin typeface="Book Antiqua"/>
                </a:rPr>
                <a:t>Message</a:t>
              </a:r>
              <a:endParaRPr b="0" lang="en-US" sz="1800" spc="-1" strike="noStrike">
                <a:solidFill>
                  <a:srgbClr val="ffffff"/>
                </a:solidFill>
                <a:latin typeface="Bauhaus 93"/>
              </a:endParaRPr>
            </a:p>
          </p:txBody>
        </p:sp>
        <p:sp>
          <p:nvSpPr>
            <p:cNvPr id="130" name="AutoShape 13"/>
            <p:cNvSpPr/>
            <p:nvPr/>
          </p:nvSpPr>
          <p:spPr>
            <a:xfrm>
              <a:off x="3946680" y="3513960"/>
              <a:ext cx="1181880" cy="595080"/>
            </a:xfrm>
            <a:prstGeom prst="octagon">
              <a:avLst>
                <a:gd name="adj" fmla="val 29287"/>
              </a:avLst>
            </a:prstGeom>
            <a:solidFill>
              <a:srgbClr val="8c9ea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23e26"/>
                  </a:solidFill>
                  <a:latin typeface="Book Antiqua"/>
                </a:rPr>
                <a:t>Symbols</a:t>
              </a:r>
              <a:endParaRPr b="0" lang="en-US" sz="1800" spc="-1" strike="noStrike">
                <a:solidFill>
                  <a:srgbClr val="ffffff"/>
                </a:solidFill>
                <a:latin typeface="Bauhaus 93"/>
              </a:endParaRPr>
            </a:p>
          </p:txBody>
        </p:sp>
      </p:grpSp>
      <p:sp>
        <p:nvSpPr>
          <p:cNvPr id="131" name="AutoShape 14"/>
          <p:cNvSpPr/>
          <p:nvPr/>
        </p:nvSpPr>
        <p:spPr>
          <a:xfrm>
            <a:off x="990720" y="1447920"/>
            <a:ext cx="1828800" cy="919080"/>
          </a:xfrm>
          <a:prstGeom prst="octagon">
            <a:avLst>
              <a:gd name="adj" fmla="val 29287"/>
            </a:avLst>
          </a:pr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3e26"/>
                </a:solidFill>
                <a:latin typeface="Book Antiqua"/>
              </a:rPr>
              <a:t>Encode/Decode</a:t>
            </a: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32" name="AutoShape 16"/>
          <p:cNvSpPr/>
          <p:nvPr/>
        </p:nvSpPr>
        <p:spPr>
          <a:xfrm>
            <a:off x="6324480" y="1447920"/>
            <a:ext cx="1828800" cy="919080"/>
          </a:xfrm>
          <a:prstGeom prst="octagon">
            <a:avLst>
              <a:gd name="adj" fmla="val 29287"/>
            </a:avLst>
          </a:pr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3e26"/>
                </a:solidFill>
                <a:latin typeface="Book Antiqua"/>
              </a:rPr>
              <a:t>Decode/Encode</a:t>
            </a: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</p:txBody>
      </p:sp>
      <p:grpSp>
        <p:nvGrpSpPr>
          <p:cNvPr id="133" name="Group 21"/>
          <p:cNvGrpSpPr/>
          <p:nvPr/>
        </p:nvGrpSpPr>
        <p:grpSpPr>
          <a:xfrm>
            <a:off x="1523880" y="5410080"/>
            <a:ext cx="6096240" cy="890640"/>
            <a:chOff x="1523880" y="5410080"/>
            <a:chExt cx="6096240" cy="890640"/>
          </a:xfrm>
        </p:grpSpPr>
        <p:sp>
          <p:nvSpPr>
            <p:cNvPr id="134" name="AutoShape 6"/>
            <p:cNvSpPr/>
            <p:nvPr/>
          </p:nvSpPr>
          <p:spPr>
            <a:xfrm>
              <a:off x="1523880" y="5470560"/>
              <a:ext cx="1463040" cy="792720"/>
            </a:xfrm>
            <a:prstGeom prst="octagon">
              <a:avLst>
                <a:gd name="adj" fmla="val 29287"/>
              </a:avLst>
            </a:prstGeom>
            <a:solidFill>
              <a:srgbClr val="ccb4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23e26"/>
                  </a:solidFill>
                  <a:latin typeface="Book Antiqua"/>
                </a:rPr>
                <a:t>Leader</a:t>
              </a:r>
              <a:endParaRPr b="0" lang="en-US" sz="2400" spc="-1" strike="noStrike">
                <a:solidFill>
                  <a:srgbClr val="ffffff"/>
                </a:solidFill>
                <a:latin typeface="Bauhaus 93"/>
              </a:endParaRPr>
            </a:p>
          </p:txBody>
        </p:sp>
        <p:sp>
          <p:nvSpPr>
            <p:cNvPr id="135" name="AutoShape 7"/>
            <p:cNvSpPr/>
            <p:nvPr/>
          </p:nvSpPr>
          <p:spPr>
            <a:xfrm>
              <a:off x="6157080" y="5470560"/>
              <a:ext cx="1463040" cy="792720"/>
            </a:xfrm>
            <a:prstGeom prst="octagon">
              <a:avLst>
                <a:gd name="adj" fmla="val 29287"/>
              </a:avLst>
            </a:prstGeom>
            <a:solidFill>
              <a:srgbClr val="ccb4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23e26"/>
                  </a:solidFill>
                  <a:latin typeface="Book Antiqua"/>
                </a:rPr>
                <a:t>Follower</a:t>
              </a:r>
              <a:endParaRPr b="0" lang="en-US" sz="2400" spc="-1" strike="noStrike">
                <a:solidFill>
                  <a:srgbClr val="ffffff"/>
                </a:solidFill>
                <a:latin typeface="Bauhaus 93"/>
              </a:endParaRPr>
            </a:p>
          </p:txBody>
        </p:sp>
        <p:sp>
          <p:nvSpPr>
            <p:cNvPr id="136" name="AutoShape 18"/>
            <p:cNvSpPr/>
            <p:nvPr/>
          </p:nvSpPr>
          <p:spPr>
            <a:xfrm>
              <a:off x="3261240" y="5410080"/>
              <a:ext cx="2743200" cy="890640"/>
            </a:xfrm>
            <a:prstGeom prst="leftRightArrow">
              <a:avLst>
                <a:gd name="adj1" fmla="val 50000"/>
                <a:gd name="adj2" fmla="val 61315"/>
              </a:avLst>
            </a:prstGeom>
            <a:solidFill>
              <a:srgbClr val="8f5f2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b400"/>
                  </a:solidFill>
                  <a:latin typeface="Book Antiqua"/>
                </a:rPr>
                <a:t>Channel</a:t>
              </a:r>
              <a:endParaRPr b="0" lang="en-US" sz="2400" spc="-1" strike="noStrike">
                <a:solidFill>
                  <a:srgbClr val="ffffff"/>
                </a:solidFill>
                <a:latin typeface="Bauhaus 93"/>
              </a:endParaRPr>
            </a:p>
          </p:txBody>
        </p:sp>
      </p:grpSp>
      <p:sp>
        <p:nvSpPr>
          <p:cNvPr id="137" name="AutoShape 19"/>
          <p:cNvSpPr/>
          <p:nvPr/>
        </p:nvSpPr>
        <p:spPr>
          <a:xfrm rot="5400000">
            <a:off x="2971440" y="1905120"/>
            <a:ext cx="1600200" cy="1447560"/>
          </a:xfrm>
          <a:prstGeom prst="pie">
            <a:avLst/>
          </a:pr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38" name="AutoShape 20"/>
          <p:cNvSpPr/>
          <p:nvPr/>
        </p:nvSpPr>
        <p:spPr>
          <a:xfrm flipH="1" rot="16200000">
            <a:off x="4570920" y="1905120"/>
            <a:ext cx="1600200" cy="1447560"/>
          </a:xfrm>
          <a:prstGeom prst="pie">
            <a:avLst/>
          </a:pr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39" name="AutoShape 22"/>
          <p:cNvSpPr/>
          <p:nvPr/>
        </p:nvSpPr>
        <p:spPr>
          <a:xfrm>
            <a:off x="2835360" y="3413160"/>
            <a:ext cx="990360" cy="838080"/>
          </a:xfrm>
          <a:prstGeom prst="irregularSeal2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3e26"/>
                </a:solidFill>
                <a:latin typeface="Book Antiqua"/>
              </a:rPr>
              <a:t>Noise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40" name="AutoShape 23"/>
          <p:cNvSpPr/>
          <p:nvPr/>
        </p:nvSpPr>
        <p:spPr>
          <a:xfrm>
            <a:off x="990720" y="4648320"/>
            <a:ext cx="990360" cy="838080"/>
          </a:xfrm>
          <a:prstGeom prst="irregularSeal2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3e26"/>
                </a:solidFill>
                <a:latin typeface="Book Antiqua"/>
              </a:rPr>
              <a:t>Noise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41" name="AutoShape 24"/>
          <p:cNvSpPr/>
          <p:nvPr/>
        </p:nvSpPr>
        <p:spPr>
          <a:xfrm>
            <a:off x="5638680" y="4495680"/>
            <a:ext cx="990720" cy="838440"/>
          </a:xfrm>
          <a:prstGeom prst="irregularSeal2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3e26"/>
                </a:solidFill>
                <a:latin typeface="Book Antiqua"/>
              </a:rPr>
              <a:t>Noise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42" name="AutoShape 25"/>
          <p:cNvSpPr/>
          <p:nvPr/>
        </p:nvSpPr>
        <p:spPr>
          <a:xfrm>
            <a:off x="2819520" y="6095880"/>
            <a:ext cx="761760" cy="644760"/>
          </a:xfrm>
          <a:prstGeom prst="irregularSeal2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3e26"/>
                </a:solidFill>
                <a:latin typeface="Book Antiqua"/>
              </a:rPr>
              <a:t>Noise</a:t>
            </a:r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43" name="AutoShape 26"/>
          <p:cNvSpPr/>
          <p:nvPr/>
        </p:nvSpPr>
        <p:spPr>
          <a:xfrm>
            <a:off x="1066680" y="3009960"/>
            <a:ext cx="1447920" cy="1225440"/>
          </a:xfrm>
          <a:prstGeom prst="irregularSeal2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23e26"/>
                </a:solidFill>
                <a:latin typeface="Book Antiqua"/>
              </a:rPr>
              <a:t>Noise</a:t>
            </a: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44" name="AutoShape 27"/>
          <p:cNvSpPr/>
          <p:nvPr/>
        </p:nvSpPr>
        <p:spPr>
          <a:xfrm>
            <a:off x="7162920" y="4114800"/>
            <a:ext cx="1447560" cy="1225440"/>
          </a:xfrm>
          <a:prstGeom prst="irregularSeal2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23e26"/>
                </a:solidFill>
                <a:latin typeface="Book Antiqua"/>
              </a:rPr>
              <a:t>Noise</a:t>
            </a: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45" name="AutoShape 28"/>
          <p:cNvSpPr/>
          <p:nvPr/>
        </p:nvSpPr>
        <p:spPr>
          <a:xfrm>
            <a:off x="5562720" y="2590920"/>
            <a:ext cx="990360" cy="838080"/>
          </a:xfrm>
          <a:prstGeom prst="irregularSeal2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3e26"/>
                </a:solidFill>
                <a:latin typeface="Book Antiqua"/>
              </a:rPr>
              <a:t>Noise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46" name="AutoShape 29"/>
          <p:cNvSpPr/>
          <p:nvPr/>
        </p:nvSpPr>
        <p:spPr>
          <a:xfrm>
            <a:off x="685800" y="5943600"/>
            <a:ext cx="762120" cy="644400"/>
          </a:xfrm>
          <a:prstGeom prst="irregularSeal2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3e26"/>
                </a:solidFill>
                <a:latin typeface="Book Antiqua"/>
              </a:rPr>
              <a:t>Noise</a:t>
            </a:r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47" name="AutoShape 30"/>
          <p:cNvSpPr/>
          <p:nvPr/>
        </p:nvSpPr>
        <p:spPr>
          <a:xfrm>
            <a:off x="7543800" y="6019920"/>
            <a:ext cx="762120" cy="644400"/>
          </a:xfrm>
          <a:prstGeom prst="irregularSeal2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3e26"/>
                </a:solidFill>
                <a:latin typeface="Book Antiqua"/>
              </a:rPr>
              <a:t>Noise</a:t>
            </a:r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48" name="AutoShape 31"/>
          <p:cNvSpPr/>
          <p:nvPr/>
        </p:nvSpPr>
        <p:spPr>
          <a:xfrm>
            <a:off x="4724280" y="6189840"/>
            <a:ext cx="609840" cy="515880"/>
          </a:xfrm>
          <a:prstGeom prst="irregularSeal2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23e26"/>
                </a:solidFill>
                <a:latin typeface="Book Antiqua"/>
              </a:rPr>
              <a:t>Noise</a:t>
            </a:r>
            <a:endParaRPr b="0" lang="en-US" sz="1000" spc="-1" strike="noStrike">
              <a:solidFill>
                <a:srgbClr val="ffffff"/>
              </a:solidFill>
              <a:latin typeface="Bauhaus 9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Engravers MT"/>
              </a:rPr>
              <a:t>The transactional communication model</a:t>
            </a:r>
            <a:endParaRPr b="0" lang="en-US" sz="32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External Noise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Occurs outside of brain</a:t>
            </a: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Stomach growing, tree in front of sign</a:t>
            </a: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Internal Noise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Occurs inside of brain</a:t>
            </a: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Listening rate/information rate ratios</a:t>
            </a: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External distractions may get you off track</a:t>
            </a: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Personal perceptions/preconceived opinions</a:t>
            </a: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Semantic Noise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Perceptual process creates semantic noise</a:t>
            </a: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Known as word noise</a:t>
            </a: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We categorize what we hear, define symbol, put it context</a:t>
            </a: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More than one condition may be present</a:t>
            </a: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c08d"/>
                </a:solidFill>
                <a:latin typeface="Engravers MT"/>
              </a:rPr>
              <a:t>Review of Leadership</a:t>
            </a:r>
            <a:endParaRPr b="0" lang="en-US" sz="36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64832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Defined as an attempt to influence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Leadership/influence – interchangeable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Three ways to influence: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Diagnosing – understand situation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Adapting – adapt behavior to situation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Communicating – so that others understand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Engravers MT"/>
              </a:rPr>
              <a:t>The transactional communication model</a:t>
            </a:r>
            <a:endParaRPr b="0" lang="en-US" sz="32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015"/>
                </a:solidFill>
                <a:latin typeface="Book Antiqua"/>
              </a:rPr>
              <a:t>Semantic Noise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cxnSp>
        <p:nvCxnSpPr>
          <p:cNvPr id="153" name="AutoShape 4"/>
          <p:cNvCxnSpPr>
            <a:stCxn id="152" idx="0"/>
            <a:endCxn id="152" idx="0"/>
          </p:cNvCxnSpPr>
          <p:nvPr/>
        </p:nvCxnSpPr>
        <p:spPr>
          <a:xfrm>
            <a:off x="4571640" y="15044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4" name="AutoShape 5"/>
          <p:cNvCxnSpPr>
            <a:stCxn id="152" idx="0"/>
            <a:endCxn id="152" idx="0"/>
          </p:cNvCxnSpPr>
          <p:nvPr/>
        </p:nvCxnSpPr>
        <p:spPr>
          <a:xfrm>
            <a:off x="4571640" y="15044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5" name="Line 6"/>
          <p:cNvSpPr/>
          <p:nvPr/>
        </p:nvSpPr>
        <p:spPr>
          <a:xfrm flipH="1">
            <a:off x="1523520" y="2209680"/>
            <a:ext cx="304812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56" name="Line 7"/>
          <p:cNvSpPr/>
          <p:nvPr/>
        </p:nvSpPr>
        <p:spPr>
          <a:xfrm>
            <a:off x="4572000" y="2209680"/>
            <a:ext cx="312408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cxnSp>
        <p:nvCxnSpPr>
          <p:cNvPr id="157" name="AutoShape 8"/>
          <p:cNvCxnSpPr/>
          <p:nvPr/>
        </p:nvCxnSpPr>
        <p:spPr>
          <a:xfrm>
            <a:off x="1485720" y="3428640"/>
            <a:ext cx="6172920" cy="1080"/>
          </a:xfrm>
          <a:prstGeom prst="straightConnector1">
            <a:avLst/>
          </a:prstGeom>
          <a:ln w="38160">
            <a:solidFill>
              <a:srgbClr val="523e26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158" name="Text Box 12"/>
          <p:cNvSpPr/>
          <p:nvPr/>
        </p:nvSpPr>
        <p:spPr>
          <a:xfrm>
            <a:off x="4479840" y="2301840"/>
            <a:ext cx="1158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3984480" y="2362320"/>
            <a:ext cx="14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Thought</a:t>
            </a: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7162920" y="3429000"/>
            <a:ext cx="14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Referent</a:t>
            </a: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609480" y="3429000"/>
            <a:ext cx="142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Symbol or Object</a:t>
            </a: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62" name="Rectangle 16"/>
          <p:cNvSpPr/>
          <p:nvPr/>
        </p:nvSpPr>
        <p:spPr>
          <a:xfrm>
            <a:off x="685800" y="4114800"/>
            <a:ext cx="7696080" cy="175248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hen we speak, we use symbolism through references or social factors-our </a:t>
            </a: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intent is to influence others.  When we hear what is said, these symbols</a:t>
            </a: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ause us to react or perform by adopting the intended attitude by</a:t>
            </a: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e speaker.</a:t>
            </a: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Adopted:  Triangle of Learning            Source:  Ogden and Richards 1949</a:t>
            </a:r>
            <a:endParaRPr b="0" lang="en-US" sz="1200" spc="-1" strike="noStrike">
              <a:solidFill>
                <a:srgbClr val="ffffff"/>
              </a:solidFill>
              <a:latin typeface="Bauhaus 9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Engravers MT"/>
              </a:rPr>
              <a:t>Leadership adjustments through</a:t>
            </a:r>
            <a:br>
              <a:rPr sz="2400"/>
            </a:br>
            <a:r>
              <a:rPr b="1" lang="en-US" sz="2400" spc="-1" strike="noStrike">
                <a:solidFill>
                  <a:srgbClr val="dfc08d"/>
                </a:solidFill>
                <a:latin typeface="Engravers MT"/>
              </a:rPr>
              <a:t>understanding of Semantic Noise</a:t>
            </a:r>
            <a:br>
              <a:rPr sz="2400"/>
            </a:br>
            <a:endParaRPr b="0" lang="en-US" sz="24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015"/>
                </a:solidFill>
                <a:latin typeface="Book Antiqua"/>
              </a:rPr>
              <a:t>Jay A. Conger reinforces need for careful word selection use of paralanguage and nonverbal behavior</a:t>
            </a:r>
            <a:endParaRPr b="0" lang="en-US" sz="26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015"/>
                </a:solidFill>
                <a:latin typeface="Book Antiqua"/>
              </a:rPr>
              <a:t>Conger’s guidelines for more expressive, inspirational leadership include:</a:t>
            </a:r>
            <a:endParaRPr b="0" lang="en-US" sz="26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d2015"/>
                </a:solidFill>
                <a:latin typeface="Book Antiqua"/>
              </a:rPr>
              <a:t>Craft mission statement – values, beliefs, purpose</a:t>
            </a:r>
            <a:endParaRPr b="0" lang="en-US" sz="22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d2015"/>
                </a:solidFill>
                <a:latin typeface="Book Antiqua"/>
              </a:rPr>
              <a:t>Use key elements of group’s culture</a:t>
            </a:r>
            <a:endParaRPr b="0" lang="en-US" sz="22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d2015"/>
                </a:solidFill>
                <a:latin typeface="Book Antiqua"/>
              </a:rPr>
              <a:t>Use rhetorical techniques – paralanguage/nonverbal behavior</a:t>
            </a:r>
            <a:endParaRPr b="0" lang="en-US" sz="22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d2015"/>
                </a:solidFill>
                <a:latin typeface="Book Antiqua"/>
              </a:rPr>
              <a:t>Show your emotions to reflect your persona feelings/concern</a:t>
            </a:r>
            <a:endParaRPr b="0" lang="en-US" sz="2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015"/>
                </a:solidFill>
                <a:latin typeface="Book Antiqua"/>
              </a:rPr>
              <a:t>Leadership involves capturing the hearts and minds of followers</a:t>
            </a:r>
            <a:endParaRPr b="0" lang="en-US" sz="26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c08d"/>
                </a:solidFill>
                <a:latin typeface="Engravers MT"/>
              </a:rPr>
              <a:t>Active listening</a:t>
            </a:r>
            <a:endParaRPr b="0" lang="en-US" sz="36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Leader must be skilled in receiving messages - listening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We speak at 125 wpm; brain able to listen at 400-600 wpm = listening gap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Four types of Listeners: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lvl="1" marL="713160" indent="-27432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Nonlistener</a:t>
            </a: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- Marginal listener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13160" indent="-27432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Evaluative listener</a:t>
            </a: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- Active listener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Active Listener – full attention to message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c08d"/>
                </a:solidFill>
                <a:latin typeface="Engravers MT"/>
              </a:rPr>
              <a:t>Active listening</a:t>
            </a:r>
            <a:endParaRPr b="0" lang="en-US" sz="36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A skill that can be learned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Five guidelines by Carl Rogers: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Listen for message content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Listen for feelings of speaker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Respond to feelings of speaker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Note the speaker’s cues (verbal/nonverbal)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Reflect back to the speaker what you think you are hearing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Results:  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Leader develops better relationships between management/staff; increase establishment of clear goals; decrease costly problems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c08d"/>
                </a:solidFill>
                <a:latin typeface="Engravers MT"/>
              </a:rPr>
              <a:t>Pacing, then leading</a:t>
            </a:r>
            <a:endParaRPr b="0" lang="en-US" sz="36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Leaders influence from personal power and position power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Rapport builds personal power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Effective communication builds personal power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Getting in step with others make them feel comfortable – pacing with them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c08d"/>
                </a:solidFill>
                <a:latin typeface="Engravers MT"/>
              </a:rPr>
              <a:t>Pacing, then leading</a:t>
            </a:r>
            <a:endParaRPr b="0" lang="en-US" sz="36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Key concepts in establishing rapport: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Book Antiqua"/>
              </a:rPr>
              <a:t>Rapport</a:t>
            </a: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 -- attuned to others-verbally/nonverbally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Book Antiqua"/>
              </a:rPr>
              <a:t>Pacing</a:t>
            </a: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 –- reflect what others do – match part of their ongoing experience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Book Antiqua"/>
              </a:rPr>
              <a:t>Leading</a:t>
            </a: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 -– getting others to pace with you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Book Antiqua"/>
              </a:rPr>
              <a:t>Having behavioral adaptability</a:t>
            </a: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 –- have range in your own behavior to pace with others – get “in sync” by aligning with their words, voice characteristics and nonverbals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c08d"/>
                </a:solidFill>
                <a:latin typeface="Engravers MT"/>
              </a:rPr>
              <a:t>The pace-lead process</a:t>
            </a:r>
            <a:endParaRPr b="0" lang="en-US" sz="36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76920"/>
          </a:xfrm>
          <a:prstGeom prst="rect">
            <a:avLst/>
          </a:prstGeom>
          <a:solidFill>
            <a:srgbClr val="ccb400"/>
          </a:solidFill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015"/>
                </a:solidFill>
                <a:latin typeface="Book Antiqua"/>
              </a:rPr>
              <a:t>Summary:</a:t>
            </a:r>
            <a:r>
              <a:rPr b="0" lang="en-US" sz="1800" spc="-1" strike="noStrike">
                <a:solidFill>
                  <a:srgbClr val="2d2015"/>
                </a:solidFill>
                <a:latin typeface="Book Antiqua"/>
              </a:rPr>
              <a:t>  </a:t>
            </a:r>
            <a:endParaRPr b="0" lang="en-US" sz="18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015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2d2015"/>
                </a:solidFill>
                <a:latin typeface="Book Antiqua"/>
              </a:rPr>
              <a:t>- If followers go with your lead – then lead</a:t>
            </a:r>
            <a:endParaRPr b="0" lang="en-US" sz="18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015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2d2015"/>
                </a:solidFill>
                <a:latin typeface="Book Antiqua"/>
              </a:rPr>
              <a:t>- If followers resist your lead, go back to pacing, look for new ways to lead</a:t>
            </a:r>
            <a:endParaRPr b="0" lang="en-US" sz="18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762120" y="2697120"/>
            <a:ext cx="1143000" cy="762120"/>
          </a:xfrm>
          <a:prstGeom prst="flowChartProcess">
            <a:avLst/>
          </a:prstGeom>
          <a:solidFill>
            <a:srgbClr val="8f5f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Follower’s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Behavior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2438280" y="2697120"/>
            <a:ext cx="1219320" cy="762120"/>
          </a:xfrm>
          <a:prstGeom prst="flowChartDisplay">
            <a:avLst/>
          </a:prstGeom>
          <a:solidFill>
            <a:srgbClr val="8f5f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Leader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Paces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Follower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77" name="AutoShape 11"/>
          <p:cNvSpPr/>
          <p:nvPr/>
        </p:nvSpPr>
        <p:spPr>
          <a:xfrm>
            <a:off x="4038480" y="2316240"/>
            <a:ext cx="1143000" cy="1523880"/>
          </a:xfrm>
          <a:prstGeom prst="octagon">
            <a:avLst>
              <a:gd name="adj" fmla="val 29287"/>
            </a:avLst>
          </a:prstGeom>
          <a:solidFill>
            <a:srgbClr val="8f5f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Leader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Attempts to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Lead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Followers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78" name="AutoShape 16"/>
          <p:cNvSpPr/>
          <p:nvPr/>
        </p:nvSpPr>
        <p:spPr>
          <a:xfrm>
            <a:off x="5638680" y="2697120"/>
            <a:ext cx="1143000" cy="762120"/>
          </a:xfrm>
          <a:prstGeom prst="flowChartProcess">
            <a:avLst/>
          </a:prstGeom>
          <a:solidFill>
            <a:srgbClr val="8f5f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Follower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Accepts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Lead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79" name="AutoShape 17"/>
          <p:cNvSpPr/>
          <p:nvPr/>
        </p:nvSpPr>
        <p:spPr>
          <a:xfrm>
            <a:off x="5334120" y="4602240"/>
            <a:ext cx="1371600" cy="838080"/>
          </a:xfrm>
          <a:prstGeom prst="flowChartProcess">
            <a:avLst/>
          </a:prstGeom>
          <a:solidFill>
            <a:srgbClr val="523e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Follower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Resists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Leader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80" name="AutoShape 18"/>
          <p:cNvSpPr/>
          <p:nvPr/>
        </p:nvSpPr>
        <p:spPr>
          <a:xfrm>
            <a:off x="7315200" y="2697120"/>
            <a:ext cx="1219320" cy="762120"/>
          </a:xfrm>
          <a:prstGeom prst="flowChartDisplay">
            <a:avLst/>
          </a:prstGeom>
          <a:solidFill>
            <a:srgbClr val="8f5f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Leader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Continues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Leading</a:t>
            </a:r>
            <a:endParaRPr b="0" lang="en-US" sz="16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81" name="Line 20"/>
          <p:cNvSpPr/>
          <p:nvPr/>
        </p:nvSpPr>
        <p:spPr>
          <a:xfrm>
            <a:off x="1905120" y="307800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82" name="Line 21"/>
          <p:cNvSpPr/>
          <p:nvPr/>
        </p:nvSpPr>
        <p:spPr>
          <a:xfrm>
            <a:off x="3657600" y="3078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181480" y="30780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84" name="Line 23"/>
          <p:cNvSpPr/>
          <p:nvPr/>
        </p:nvSpPr>
        <p:spPr>
          <a:xfrm>
            <a:off x="6781680" y="30780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85" name="Line 25"/>
          <p:cNvSpPr/>
          <p:nvPr/>
        </p:nvSpPr>
        <p:spPr>
          <a:xfrm>
            <a:off x="4572000" y="3840120"/>
            <a:ext cx="0" cy="914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86" name="Line 27"/>
          <p:cNvSpPr/>
          <p:nvPr/>
        </p:nvSpPr>
        <p:spPr>
          <a:xfrm>
            <a:off x="4572000" y="4754520"/>
            <a:ext cx="762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87" name="Line 28"/>
          <p:cNvSpPr/>
          <p:nvPr/>
        </p:nvSpPr>
        <p:spPr>
          <a:xfrm flipH="1">
            <a:off x="3048120" y="5288040"/>
            <a:ext cx="228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88" name="Line 29"/>
          <p:cNvSpPr/>
          <p:nvPr/>
        </p:nvSpPr>
        <p:spPr>
          <a:xfrm flipV="1">
            <a:off x="3048120" y="3459240"/>
            <a:ext cx="0" cy="1828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89" name="Line 31"/>
          <p:cNvSpPr/>
          <p:nvPr/>
        </p:nvSpPr>
        <p:spPr>
          <a:xfrm>
            <a:off x="3733920" y="52880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90" name="Line 32"/>
          <p:cNvSpPr/>
          <p:nvPr/>
        </p:nvSpPr>
        <p:spPr>
          <a:xfrm flipV="1">
            <a:off x="3048120" y="3458880"/>
            <a:ext cx="0" cy="152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91" name="Line 33"/>
          <p:cNvSpPr/>
          <p:nvPr/>
        </p:nvSpPr>
        <p:spPr>
          <a:xfrm>
            <a:off x="5181480" y="4754520"/>
            <a:ext cx="152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192" name="Line 35"/>
          <p:cNvSpPr/>
          <p:nvPr/>
        </p:nvSpPr>
        <p:spPr>
          <a:xfrm flipH="1">
            <a:off x="4114440" y="5288040"/>
            <a:ext cx="152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Engravers MT"/>
              </a:rPr>
              <a:t>Organizational Communication</a:t>
            </a:r>
            <a:endParaRPr b="0" lang="en-US" sz="32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All members want to be in “the know”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External communication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Internal communication systems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Downward communication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Upward communication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Horizontal communication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Grapevine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Networks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Engravers MT"/>
              </a:rPr>
              <a:t>Patterns of communication</a:t>
            </a:r>
            <a:endParaRPr b="0" lang="en-US" sz="32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015"/>
                </a:solidFill>
                <a:latin typeface="Book Antiqua"/>
              </a:rPr>
              <a:t>Two patterns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Star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2" marL="1108440" indent="-221400">
              <a:spcBef>
                <a:spcPts val="601"/>
              </a:spcBef>
              <a:buClr>
                <a:srgbClr val="2d2015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Group is free to communicate all around the circle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2" marL="1108440" indent="-221400">
              <a:spcBef>
                <a:spcPts val="601"/>
              </a:spcBef>
              <a:buClr>
                <a:srgbClr val="2d2015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Nothing favors one group member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2" marL="1108440" indent="-221400">
              <a:spcBef>
                <a:spcPts val="601"/>
              </a:spcBef>
              <a:buClr>
                <a:srgbClr val="2d2015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Decision making open to all members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Circle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2" marL="1108440" indent="-221400">
              <a:spcBef>
                <a:spcPts val="601"/>
              </a:spcBef>
              <a:buClr>
                <a:srgbClr val="2d2015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C” is in leadership role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2" marL="1108440" indent="-221400">
              <a:spcBef>
                <a:spcPts val="601"/>
              </a:spcBef>
              <a:buClr>
                <a:srgbClr val="2d2015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Members communicate with “C”, not each other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2" marL="1108440" indent="-221400">
              <a:spcBef>
                <a:spcPts val="601"/>
              </a:spcBef>
              <a:buClr>
                <a:srgbClr val="2d2015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Represents an autocratic structure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3429000" y="23623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Engravers MT"/>
              </a:rPr>
              <a:t>Patterns of communication</a:t>
            </a:r>
            <a:endParaRPr b="0" lang="en-US" sz="32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lIns="109080" rIns="109080" tIns="65880" bIns="65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  <p:cxnSp>
        <p:nvCxnSpPr>
          <p:cNvPr id="200" name="AutoShape 4"/>
          <p:cNvCxnSpPr/>
          <p:nvPr/>
        </p:nvCxnSpPr>
        <p:spPr>
          <a:xfrm>
            <a:off x="437760" y="38635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01" name="AutoShape 5"/>
          <p:cNvCxnSpPr/>
          <p:nvPr/>
        </p:nvCxnSpPr>
        <p:spPr>
          <a:xfrm>
            <a:off x="437760" y="38635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2" name="Text Box 7"/>
          <p:cNvSpPr/>
          <p:nvPr/>
        </p:nvSpPr>
        <p:spPr>
          <a:xfrm>
            <a:off x="2296440" y="364176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3581280" y="48006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1355760" y="49687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3581280" y="25146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990720" y="25146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990720" y="478476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2133720" y="5410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tar</a:t>
            </a:r>
            <a:endParaRPr b="0" lang="en-US" sz="24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09" name="AutoShape 24"/>
          <p:cNvSpPr/>
          <p:nvPr/>
        </p:nvSpPr>
        <p:spPr>
          <a:xfrm rot="19017000">
            <a:off x="1219320" y="4190760"/>
            <a:ext cx="1143000" cy="457200"/>
          </a:xfrm>
          <a:prstGeom prst="leftRightArrow">
            <a:avLst>
              <a:gd name="adj1" fmla="val 50000"/>
              <a:gd name="adj2" fmla="val 49769"/>
            </a:avLst>
          </a:prstGeom>
          <a:solidFill>
            <a:srgbClr val="8f5f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10" name="AutoShape 25"/>
          <p:cNvSpPr/>
          <p:nvPr/>
        </p:nvSpPr>
        <p:spPr>
          <a:xfrm rot="2577000">
            <a:off x="2590560" y="4191120"/>
            <a:ext cx="1143000" cy="457200"/>
          </a:xfrm>
          <a:prstGeom prst="leftRightArrow">
            <a:avLst>
              <a:gd name="adj1" fmla="val 50000"/>
              <a:gd name="adj2" fmla="val 49769"/>
            </a:avLst>
          </a:prstGeom>
          <a:solidFill>
            <a:srgbClr val="8f5f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11" name="AutoShape 26"/>
          <p:cNvSpPr/>
          <p:nvPr/>
        </p:nvSpPr>
        <p:spPr>
          <a:xfrm rot="2577000">
            <a:off x="1218960" y="3048120"/>
            <a:ext cx="1143000" cy="457200"/>
          </a:xfrm>
          <a:prstGeom prst="leftRightArrow">
            <a:avLst>
              <a:gd name="adj1" fmla="val 50000"/>
              <a:gd name="adj2" fmla="val 49769"/>
            </a:avLst>
          </a:prstGeom>
          <a:solidFill>
            <a:srgbClr val="8f5f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12" name="AutoShape 27"/>
          <p:cNvSpPr/>
          <p:nvPr/>
        </p:nvSpPr>
        <p:spPr>
          <a:xfrm rot="8241600">
            <a:off x="2552400" y="3009960"/>
            <a:ext cx="1143000" cy="457200"/>
          </a:xfrm>
          <a:prstGeom prst="leftRightArrow">
            <a:avLst>
              <a:gd name="adj1" fmla="val 50000"/>
              <a:gd name="adj2" fmla="val 49769"/>
            </a:avLst>
          </a:prstGeom>
          <a:solidFill>
            <a:srgbClr val="8f5f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13" name="AutoShape 28"/>
          <p:cNvSpPr/>
          <p:nvPr/>
        </p:nvSpPr>
        <p:spPr>
          <a:xfrm rot="8624400">
            <a:off x="5333400" y="2590920"/>
            <a:ext cx="990360" cy="457200"/>
          </a:xfrm>
          <a:prstGeom prst="leftRightArrow">
            <a:avLst>
              <a:gd name="adj1" fmla="val 50000"/>
              <a:gd name="adj2" fmla="val 43122"/>
            </a:avLst>
          </a:prstGeom>
          <a:solidFill>
            <a:srgbClr val="8f5f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14" name="AutoShape 29"/>
          <p:cNvSpPr/>
          <p:nvPr/>
        </p:nvSpPr>
        <p:spPr>
          <a:xfrm rot="2278800">
            <a:off x="6781320" y="2590920"/>
            <a:ext cx="990720" cy="457200"/>
          </a:xfrm>
          <a:prstGeom prst="leftRightArrow">
            <a:avLst>
              <a:gd name="adj1" fmla="val 50000"/>
              <a:gd name="adj2" fmla="val 43138"/>
            </a:avLst>
          </a:prstGeom>
          <a:solidFill>
            <a:srgbClr val="8f5f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15" name="AutoShape 30"/>
          <p:cNvSpPr/>
          <p:nvPr/>
        </p:nvSpPr>
        <p:spPr>
          <a:xfrm rot="10800000">
            <a:off x="6019560" y="4800600"/>
            <a:ext cx="1066680" cy="457200"/>
          </a:xfrm>
          <a:prstGeom prst="leftRightArrow">
            <a:avLst>
              <a:gd name="adj1" fmla="val 50000"/>
              <a:gd name="adj2" fmla="val 46445"/>
            </a:avLst>
          </a:prstGeom>
          <a:solidFill>
            <a:srgbClr val="8f5f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16" name="AutoShape 31"/>
          <p:cNvSpPr/>
          <p:nvPr/>
        </p:nvSpPr>
        <p:spPr>
          <a:xfrm rot="4186800">
            <a:off x="4915080" y="4000320"/>
            <a:ext cx="990360" cy="457200"/>
          </a:xfrm>
          <a:prstGeom prst="leftRightArrow">
            <a:avLst>
              <a:gd name="adj1" fmla="val 50000"/>
              <a:gd name="adj2" fmla="val 43122"/>
            </a:avLst>
          </a:prstGeom>
          <a:solidFill>
            <a:srgbClr val="8f5f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17" name="AutoShape 32"/>
          <p:cNvSpPr/>
          <p:nvPr/>
        </p:nvSpPr>
        <p:spPr>
          <a:xfrm rot="6530400">
            <a:off x="7200720" y="4000320"/>
            <a:ext cx="990360" cy="457200"/>
          </a:xfrm>
          <a:prstGeom prst="leftRightArrow">
            <a:avLst>
              <a:gd name="adj1" fmla="val 50000"/>
              <a:gd name="adj2" fmla="val 43122"/>
            </a:avLst>
          </a:prstGeom>
          <a:solidFill>
            <a:srgbClr val="8f5f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18" name="Text Box 33"/>
          <p:cNvSpPr/>
          <p:nvPr/>
        </p:nvSpPr>
        <p:spPr>
          <a:xfrm>
            <a:off x="6324480" y="2117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19" name="Text Box 34"/>
          <p:cNvSpPr/>
          <p:nvPr/>
        </p:nvSpPr>
        <p:spPr>
          <a:xfrm>
            <a:off x="7772400" y="32004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20" name="Text Box 35"/>
          <p:cNvSpPr/>
          <p:nvPr/>
        </p:nvSpPr>
        <p:spPr>
          <a:xfrm>
            <a:off x="7249320" y="487692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21" name="Text Box 36"/>
          <p:cNvSpPr/>
          <p:nvPr/>
        </p:nvSpPr>
        <p:spPr>
          <a:xfrm>
            <a:off x="5486400" y="48769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22" name="Text Box 37"/>
          <p:cNvSpPr/>
          <p:nvPr/>
        </p:nvSpPr>
        <p:spPr>
          <a:xfrm>
            <a:off x="4952880" y="32004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223" name="Text Box 39"/>
          <p:cNvSpPr/>
          <p:nvPr/>
        </p:nvSpPr>
        <p:spPr>
          <a:xfrm>
            <a:off x="6019920" y="5410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ircle</a:t>
            </a:r>
            <a:endParaRPr b="0" lang="en-US" sz="2400" spc="-1" strike="noStrike">
              <a:solidFill>
                <a:srgbClr val="ffffff"/>
              </a:solidFill>
              <a:latin typeface="Bauhaus 9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Engravers MT"/>
              </a:rPr>
              <a:t>Importance of Effective Communication</a:t>
            </a:r>
            <a:endParaRPr b="0" lang="en-US" sz="32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411480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Fact:  Written and oral communication skills are the two most important factors/skills in obtaining employment.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There is a direct correlation between employee communication and profitability.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Good communications are the lifeblood of any enterprise.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Engravers MT"/>
              </a:rPr>
              <a:t>Is there a best pattern?</a:t>
            </a:r>
            <a:endParaRPr b="0" lang="en-US" sz="32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Marble Experiment by Alex Bavelas: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Star Group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The star (autocratic) pattern more effective</a:t>
            </a: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Star group faster and used fewer messages, developed more efficient processes</a:t>
            </a: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However, had negative effect on morale</a:t>
            </a: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Group:  high opinion of communication but</a:t>
            </a: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low opinion of themselves </a:t>
            </a: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Circle Group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Slow, inaccurate, but happy</a:t>
            </a: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No system, no leader emerged</a:t>
            </a: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Critical of process, but enjoyed tasks</a:t>
            </a: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Emergency Changed Outcome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Book Antiqua"/>
              </a:rPr>
              <a:t>In emergency, Circle Group worked together for solution</a:t>
            </a: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Engravers MT"/>
              </a:rPr>
              <a:t>International business communication</a:t>
            </a:r>
            <a:endParaRPr b="0" lang="en-US" sz="32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Different cultures create barriers for communication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Attribution is critical for these times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Perception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Stereotyping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Ethnocentrism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Our communication skills used in our local situations may be offensive to other cultures – We must stay aware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c08d"/>
                </a:solidFill>
                <a:latin typeface="Engravers MT"/>
              </a:rPr>
              <a:t>summary</a:t>
            </a:r>
            <a:endParaRPr b="0" lang="en-US" sz="36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Effective leaders require interpersonal skills and written and oral communication skills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Listening and explaining skills are vital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Communication skills are critical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The Transactional Model of Communication best for today’s workplace (emphasis on teams)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c08d"/>
                </a:solidFill>
                <a:latin typeface="Engravers MT"/>
              </a:rPr>
              <a:t>Chapter Overview</a:t>
            </a:r>
            <a:endParaRPr b="0" lang="en-US" sz="36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82240" cy="571500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Communication Models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Linear ~ Interactional ~ Transactional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Organizational Communication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Downward/upward/horizontal communication; grapevine; networks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Patterns of Communication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Star and circle patterns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Best” Pattern of Communication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Trials show star pattern faster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International Business Communication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Different cultures affect communication effectiveness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c08d"/>
                </a:solidFill>
                <a:latin typeface="Engravers MT"/>
              </a:rPr>
              <a:t>Three Basic Communication Models</a:t>
            </a:r>
            <a:endParaRPr b="0" lang="en-US" sz="28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The Linear Model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990720" indent="-533520"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Shows communicative events as one-sided activities from the leader to the follower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990720" indent="-533520"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Static model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marL="609480" indent="-609480">
              <a:spcBef>
                <a:spcPts val="700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The Interactional Communication Model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990720" indent="-533520"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Follower decodes the message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990720" indent="-533520"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Follower encodes symbols; gives feedback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marL="609480" indent="-609480">
              <a:spcBef>
                <a:spcPts val="700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The Transactional Communication Model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990720" indent="-533520"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Face-to-face communication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990720" indent="-533520"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Static model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193"/>
          <p:cNvSpPr/>
          <p:nvPr/>
        </p:nvSpPr>
        <p:spPr>
          <a:xfrm rot="896400">
            <a:off x="609120" y="1261800"/>
            <a:ext cx="3057480" cy="1557360"/>
          </a:xfrm>
          <a:custGeom>
            <a:avLst/>
            <a:gdLst>
              <a:gd name="textAreaLeft" fmla="*/ 409320 w 3057480"/>
              <a:gd name="textAreaRight" fmla="*/ 2648160 w 3057480"/>
              <a:gd name="textAreaTop" fmla="*/ 277560 h 1557360"/>
              <a:gd name="textAreaBottom" fmla="*/ 1160280 h 15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04" stAng="-5400000" swAng="-5400000"/>
                <a:lnTo>
                  <a:pt x="0" y="12238"/>
                </a:lnTo>
                <a:arcTo wR="21600" hR="7704" stAng="10800000" swAng="-2617195"/>
                <a:lnTo>
                  <a:pt x="14029" y="21111"/>
                </a:lnTo>
                <a:lnTo>
                  <a:pt x="21600" y="17674"/>
                </a:lnTo>
                <a:lnTo>
                  <a:pt x="14029" y="13259"/>
                </a:lnTo>
                <a:lnTo>
                  <a:pt x="14029" y="14918"/>
                </a:lnTo>
                <a:arcTo wR="21600" hR="7704" stAng="8182805" swAng="2241180"/>
                <a:lnTo>
                  <a:pt x="956" y="9971"/>
                </a:lnTo>
                <a:arcTo wR="21600" hR="7704" stAng="-10423985" swAng="5023985"/>
                <a:close/>
              </a:path>
              <a:path fill="darkenLess" w="21600" h="21600">
                <a:moveTo>
                  <a:pt x="21600" y="0"/>
                </a:moveTo>
                <a:arcTo wR="21600" hR="7704" stAng="-5400000" swAng="-5400000"/>
                <a:lnTo>
                  <a:pt x="0" y="7704"/>
                </a:lnTo>
                <a:arcTo wR="21600" hR="7704" stAng="10800000" swAng="-376015"/>
                <a:lnTo>
                  <a:pt x="956" y="9971"/>
                </a:lnTo>
                <a:arcTo wR="21600" hR="7704" stAng="-10423985" swAng="5023985"/>
                <a:close/>
              </a:path>
            </a:pathLst>
          </a:cu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59" name="AutoShape 194"/>
          <p:cNvSpPr/>
          <p:nvPr/>
        </p:nvSpPr>
        <p:spPr>
          <a:xfrm flipH="1" rot="20703600">
            <a:off x="5551920" y="2437920"/>
            <a:ext cx="3057480" cy="1557000"/>
          </a:xfrm>
          <a:custGeom>
            <a:avLst/>
            <a:gdLst>
              <a:gd name="textAreaLeft" fmla="*/ 409320 w 3057480"/>
              <a:gd name="textAreaRight" fmla="*/ 2648160 w 3057480"/>
              <a:gd name="textAreaTop" fmla="*/ 277560 h 1557000"/>
              <a:gd name="textAreaBottom" fmla="*/ 1159920 h 155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04" stAng="-5400000" swAng="-5400000"/>
                <a:lnTo>
                  <a:pt x="0" y="12238"/>
                </a:lnTo>
                <a:arcTo wR="21600" hR="7704" stAng="10800000" swAng="-2617195"/>
                <a:lnTo>
                  <a:pt x="14029" y="21111"/>
                </a:lnTo>
                <a:lnTo>
                  <a:pt x="21600" y="17674"/>
                </a:lnTo>
                <a:lnTo>
                  <a:pt x="14029" y="13259"/>
                </a:lnTo>
                <a:lnTo>
                  <a:pt x="14029" y="14918"/>
                </a:lnTo>
                <a:arcTo wR="21600" hR="7704" stAng="8182805" swAng="2241180"/>
                <a:lnTo>
                  <a:pt x="956" y="9971"/>
                </a:lnTo>
                <a:arcTo wR="21600" hR="7704" stAng="-10423985" swAng="5023985"/>
                <a:close/>
              </a:path>
              <a:path fill="darkenLess" w="21600" h="21600">
                <a:moveTo>
                  <a:pt x="21600" y="0"/>
                </a:moveTo>
                <a:arcTo wR="21600" hR="7704" stAng="-5400000" swAng="-5400000"/>
                <a:lnTo>
                  <a:pt x="0" y="7704"/>
                </a:lnTo>
                <a:arcTo wR="21600" hR="7704" stAng="10800000" swAng="-376015"/>
                <a:lnTo>
                  <a:pt x="956" y="9971"/>
                </a:lnTo>
                <a:arcTo wR="21600" hR="7704" stAng="-10423985" swAng="5023985"/>
                <a:close/>
              </a:path>
            </a:pathLst>
          </a:cu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c08d"/>
                </a:solidFill>
                <a:latin typeface="Engravers MT"/>
              </a:rPr>
              <a:t>The Linear Model</a:t>
            </a:r>
            <a:endParaRPr b="0" lang="en-US" sz="3600" spc="-1" strike="noStrike">
              <a:solidFill>
                <a:srgbClr val="2d2015"/>
              </a:solidFill>
              <a:latin typeface="Book Antiqua"/>
            </a:endParaRPr>
          </a:p>
        </p:txBody>
      </p:sp>
      <p:sp>
        <p:nvSpPr>
          <p:cNvPr id="61" name="AutoShape 175"/>
          <p:cNvSpPr/>
          <p:nvPr/>
        </p:nvSpPr>
        <p:spPr>
          <a:xfrm>
            <a:off x="685800" y="5410080"/>
            <a:ext cx="1828800" cy="990720"/>
          </a:xfrm>
          <a:prstGeom prst="octagon">
            <a:avLst>
              <a:gd name="adj" fmla="val 29287"/>
            </a:avLst>
          </a:prstGeom>
          <a:solidFill>
            <a:srgbClr val="ccb4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Book Antiqua"/>
              </a:rPr>
              <a:t>Leader</a:t>
            </a:r>
            <a:endParaRPr b="0" lang="en-US" sz="28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62" name="AutoShape 176"/>
          <p:cNvSpPr/>
          <p:nvPr/>
        </p:nvSpPr>
        <p:spPr>
          <a:xfrm>
            <a:off x="6477120" y="5410080"/>
            <a:ext cx="1828800" cy="990720"/>
          </a:xfrm>
          <a:prstGeom prst="octagon">
            <a:avLst>
              <a:gd name="adj" fmla="val 29287"/>
            </a:avLst>
          </a:prstGeom>
          <a:solidFill>
            <a:srgbClr val="ccb4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Book Antiqua"/>
              </a:rPr>
              <a:t>Follower</a:t>
            </a:r>
            <a:endParaRPr b="0" lang="en-US" sz="28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63" name="AutoShape 185"/>
          <p:cNvSpPr/>
          <p:nvPr/>
        </p:nvSpPr>
        <p:spPr>
          <a:xfrm>
            <a:off x="3086280" y="5410080"/>
            <a:ext cx="2971800" cy="990720"/>
          </a:xfrm>
          <a:custGeom>
            <a:avLst/>
            <a:gdLst>
              <a:gd name="textAreaLeft" fmla="*/ 371520 w 2971800"/>
              <a:gd name="textAreaRight" fmla="*/ 2600640 w 29718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f5f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b400"/>
                </a:solidFill>
                <a:latin typeface="Book Antiqua"/>
              </a:rPr>
              <a:t>Channel</a:t>
            </a:r>
            <a:endParaRPr b="0" lang="en-US" sz="24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64" name="Text Box 167"/>
          <p:cNvSpPr/>
          <p:nvPr/>
        </p:nvSpPr>
        <p:spPr>
          <a:xfrm>
            <a:off x="1371600" y="1295280"/>
            <a:ext cx="670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65" name="Text Box 170"/>
          <p:cNvSpPr/>
          <p:nvPr/>
        </p:nvSpPr>
        <p:spPr>
          <a:xfrm>
            <a:off x="898560" y="1333440"/>
            <a:ext cx="6645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66" name="AutoShape 174"/>
          <p:cNvSpPr/>
          <p:nvPr/>
        </p:nvSpPr>
        <p:spPr>
          <a:xfrm rot="896400">
            <a:off x="636120" y="3741480"/>
            <a:ext cx="3057480" cy="1557360"/>
          </a:xfrm>
          <a:custGeom>
            <a:avLst/>
            <a:gdLst>
              <a:gd name="textAreaLeft" fmla="*/ 409320 w 3057480"/>
              <a:gd name="textAreaRight" fmla="*/ 2648160 w 3057480"/>
              <a:gd name="textAreaTop" fmla="*/ 277560 h 1557360"/>
              <a:gd name="textAreaBottom" fmla="*/ 1160280 h 15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04" stAng="-5400000" swAng="-5400000"/>
                <a:lnTo>
                  <a:pt x="0" y="12238"/>
                </a:lnTo>
                <a:arcTo wR="21600" hR="7704" stAng="10800000" swAng="-2617195"/>
                <a:lnTo>
                  <a:pt x="14029" y="21111"/>
                </a:lnTo>
                <a:lnTo>
                  <a:pt x="21600" y="17674"/>
                </a:lnTo>
                <a:lnTo>
                  <a:pt x="14029" y="13259"/>
                </a:lnTo>
                <a:lnTo>
                  <a:pt x="14029" y="14918"/>
                </a:lnTo>
                <a:arcTo wR="21600" hR="7704" stAng="8182805" swAng="2241180"/>
                <a:lnTo>
                  <a:pt x="956" y="9971"/>
                </a:lnTo>
                <a:arcTo wR="21600" hR="7704" stAng="-10423985" swAng="5023985"/>
                <a:close/>
              </a:path>
              <a:path fill="darkenLess" w="21600" h="21600">
                <a:moveTo>
                  <a:pt x="21600" y="0"/>
                </a:moveTo>
                <a:arcTo wR="21600" hR="7704" stAng="-5400000" swAng="-5400000"/>
                <a:lnTo>
                  <a:pt x="0" y="7704"/>
                </a:lnTo>
                <a:arcTo wR="21600" hR="7704" stAng="10800000" swAng="-376015"/>
                <a:lnTo>
                  <a:pt x="956" y="9971"/>
                </a:lnTo>
                <a:arcTo wR="21600" hR="7704" stAng="-10423985" swAng="5023985"/>
                <a:close/>
              </a:path>
            </a:pathLst>
          </a:cu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67" name="AutoShape 190"/>
          <p:cNvSpPr/>
          <p:nvPr/>
        </p:nvSpPr>
        <p:spPr>
          <a:xfrm>
            <a:off x="3657600" y="3844800"/>
            <a:ext cx="1828800" cy="920880"/>
          </a:xfrm>
          <a:prstGeom prst="octagon">
            <a:avLst>
              <a:gd name="adj" fmla="val 29287"/>
            </a:avLst>
          </a:pr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3e26"/>
                </a:solidFill>
                <a:latin typeface="Book Antiqua"/>
              </a:rPr>
              <a:t>Message</a:t>
            </a:r>
            <a:endParaRPr b="0" lang="en-US" sz="24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68" name="AutoShape 189"/>
          <p:cNvSpPr/>
          <p:nvPr/>
        </p:nvSpPr>
        <p:spPr>
          <a:xfrm>
            <a:off x="3657600" y="2570040"/>
            <a:ext cx="1828800" cy="920880"/>
          </a:xfrm>
          <a:prstGeom prst="octagon">
            <a:avLst>
              <a:gd name="adj" fmla="val 29287"/>
            </a:avLst>
          </a:pr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3e26"/>
                </a:solidFill>
                <a:latin typeface="Book Antiqua"/>
              </a:rPr>
              <a:t>Symbols</a:t>
            </a:r>
            <a:endParaRPr b="0" lang="en-US" sz="2400" spc="-1" strike="noStrike">
              <a:solidFill>
                <a:srgbClr val="ffffff"/>
              </a:solidFill>
              <a:latin typeface="Bauhaus 93"/>
            </a:endParaRPr>
          </a:p>
        </p:txBody>
      </p:sp>
      <p:sp>
        <p:nvSpPr>
          <p:cNvPr id="69" name="AutoShape 188"/>
          <p:cNvSpPr/>
          <p:nvPr/>
        </p:nvSpPr>
        <p:spPr>
          <a:xfrm>
            <a:off x="3657600" y="1366920"/>
            <a:ext cx="1828800" cy="919080"/>
          </a:xfrm>
          <a:prstGeom prst="octagon">
            <a:avLst>
              <a:gd name="adj" fmla="val 29287"/>
            </a:avLst>
          </a:prstGeom>
          <a:solidFill>
            <a:srgbClr val="8c9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3e26"/>
                </a:solidFill>
                <a:latin typeface="Book Antiqua"/>
              </a:rPr>
              <a:t>Encode</a:t>
            </a:r>
            <a:endParaRPr b="0" lang="en-US" sz="2400" spc="-1" strike="noStrike">
              <a:solidFill>
                <a:srgbClr val="ffffff"/>
              </a:solidFill>
              <a:latin typeface="Bauhaus 9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c08d"/>
                </a:solidFill>
                <a:latin typeface="Engravers MT"/>
              </a:rPr>
              <a:t>The Lineal model</a:t>
            </a:r>
            <a:endParaRPr b="0" lang="en-US" sz="36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One sided – leader to follower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39480" indent="-3394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Encoding thoughts to symbols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39480" indent="-3394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Symbols: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lvl="1" marL="735480" indent="-28296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Images/logos/etc. represent something else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marL="339480" indent="-3394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Message: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lvl="1" marL="735480" indent="-28296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Symbols formed into messages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35480" indent="-28296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Message can be one or set of symbols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marL="339480" indent="-33948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Channel: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lvl="1" marL="735480" indent="-28296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Messages placed in channel for distribution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Engravers MT"/>
              </a:rPr>
              <a:t>The linear model</a:t>
            </a:r>
            <a:br>
              <a:rPr sz="3200"/>
            </a:br>
            <a:r>
              <a:rPr b="0" lang="en-US" sz="3200" spc="-1" strike="noStrike">
                <a:solidFill>
                  <a:srgbClr val="dfc08d"/>
                </a:solidFill>
                <a:latin typeface="Engravers MT"/>
              </a:rPr>
              <a:t>Language/body cues</a:t>
            </a:r>
            <a:endParaRPr b="0" lang="en-US" sz="32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solidFill>
            <a:srgbClr val="ccb4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015"/>
                </a:solidFill>
                <a:latin typeface="Book Antiqua"/>
              </a:rPr>
              <a:t>Verbal Language Cues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Messages have verbal or nonverbal cues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Powerless language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Hedges (I think, ums, ers, disclaimers)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Book Antiqua"/>
              </a:rPr>
              <a:t>Powerful language</a:t>
            </a:r>
            <a:endParaRPr b="0" lang="en-US" sz="3200" spc="-1" strike="noStrike">
              <a:solidFill>
                <a:srgbClr val="2d2015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Perceived as competent, dynamic, attractive 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Engravers MT"/>
              </a:rPr>
              <a:t>The Linear Model</a:t>
            </a:r>
            <a:br>
              <a:rPr sz="3200"/>
            </a:br>
            <a:r>
              <a:rPr b="0" lang="en-US" sz="3200" spc="-1" strike="noStrike">
                <a:solidFill>
                  <a:srgbClr val="dfc08d"/>
                </a:solidFill>
                <a:latin typeface="Engravers MT"/>
              </a:rPr>
              <a:t> Language/body cues</a:t>
            </a:r>
            <a:endParaRPr b="0" lang="en-US" sz="3200" spc="-1" strike="noStrike">
              <a:solidFill>
                <a:srgbClr val="dfc08d"/>
              </a:solidFill>
              <a:latin typeface="Engraver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Book Antiqua"/>
              </a:rPr>
              <a:t>Nonverbal Language Cues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Nonverbal Cues – Four Functions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Supplement verbal cues – accenting emphasis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Substitute verbal cues – smile/frowns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Contradict verbal cues – sweating/body movement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Regulate verbal cues – pitch at end of sentence to ?,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    </a:t>
            </a: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holding up a hand to stop interaction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-  Others:  body positions, appearance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2d201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Book Antiqua"/>
              </a:rPr>
              <a:t>Paralanguage</a:t>
            </a:r>
            <a:endParaRPr b="0" lang="en-US" sz="2800" spc="-1" strike="noStrike">
              <a:solidFill>
                <a:srgbClr val="2d2015"/>
              </a:solidFill>
              <a:latin typeface="Book Antiqu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Pitch, rate, volume, use of pauses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2d2015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Book Antiqua"/>
              </a:rPr>
              <a:t>Demonstrates enthusiasm, anxiety, urgency</a:t>
            </a:r>
            <a:endParaRPr b="0" lang="en-US" sz="2400" spc="-1" strike="noStrike">
              <a:solidFill>
                <a:srgbClr val="2d2015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3T01:21:33Z</dcterms:created>
  <dc:creator>Babcock Graduate School</dc:creator>
  <dc:description/>
  <dc:language>en-US</dc:language>
  <cp:lastModifiedBy>AEURY</cp:lastModifiedBy>
  <dcterms:modified xsi:type="dcterms:W3CDTF">2009-06-01T16:08:09Z</dcterms:modified>
  <cp:revision>30</cp:revision>
  <dc:subject/>
  <dc:title>Management of Organizational Behavior:   Leading Human Resources</dc:title>
</cp:coreProperties>
</file>